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50D-816B-4F02-917B-077DEB90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757-9FBA-477F-BA4E-C3F1EB01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626-AA66-4094-9903-6D25F26E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DCC-28D8-442A-A11D-C92D6262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897-FEFC-4329-B7DA-748396A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F92-C1B4-4003-A471-958FF03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459-AF17-4769-945D-3B5D8FB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457-296C-4734-A4F2-015A3F8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7E0-C458-40CB-99FB-68737A5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C6B-81B4-4F7E-9A73-1C65B27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15A-C545-499D-BF8D-EFB8A44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AD4-9439-45DE-85F0-3026C4E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DA2D-E731-4C96-91C9-438071CF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strangelo Edessa"/>
              </a:rPr>
              <a:t>Ropa Catálogo de Estacio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By: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Kaley Brudner</a:t>
            </a: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 &amp;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Samantha Gre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French Script MT"/>
              </a:rPr>
              <a:t>Invi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Julissa lleva abrigo largo, blanco y marrón, los pantalones, marrónes, y botas, marrón. Ella es muy cómodo!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Lola lleva una camisa, roja y blanca, y pantalones, negro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Ella es con esti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2943360"/>
            <a:ext cx="2438280" cy="391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weater"/>
          <p:cNvPicPr/>
          <p:nvPr/>
        </p:nvPicPr>
        <p:blipFill>
          <a:blip r:embed="rId3"/>
          <a:stretch/>
        </p:blipFill>
        <p:spPr>
          <a:xfrm>
            <a:off x="6629400" y="2743200"/>
            <a:ext cx="220968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6200" y="4648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uice ITC"/>
              </a:rPr>
              <a:t>Ropa para </a:t>
            </a:r>
            <a:r>
              <a:rPr b="1" lang="en-US" sz="4400" spc="-1" strike="noStrike">
                <a:solidFill>
                  <a:srgbClr val="ffcc00"/>
                </a:solidFill>
                <a:latin typeface="Juice ITC"/>
              </a:rPr>
              <a:t>la primav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Sara lleva una blusa, gris y blanca, una cinturón, marrón, y pantalones cortos, azules. Tambien, una pulsera, plata. Ella es muy lin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Clara lleva una blusa, amarillo y blanca, pantalones, negros, y pulsera, ora. Ella es muy boni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1371600"/>
            <a:ext cx="2146320" cy="32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Ropa para el </a:t>
            </a:r>
            <a:r>
              <a:rPr b="0" lang="en-US" sz="4400" spc="-1" strike="noStrike">
                <a:solidFill>
                  <a:srgbClr val="99cc00"/>
                </a:solidFill>
                <a:latin typeface="Haettenschweiler"/>
              </a:rPr>
              <a:t>vera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Cassidy lleva traje de baño, azul, violeta, y negra. se traje de un bikini. Ella es muy perfec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aettenschweiler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aettenschweiler"/>
              </a:rPr>
              <a:t>Cassidy lleva traje de baño, rojo, azul, y amarillo. Ella es muy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2066760" cy="318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Constantia"/>
              </a:rPr>
              <a:t>Oto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Laura lleva un vestido, blanco y rosado. Tambien, una pulsera, brillante y plata. Ella es muy est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Grace lleva camisa, amarilla y gris, un cinturón, blanco y amarillo, pantalones, negro, y una pulsera, pl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2247840" cy="337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6920" y="1143000"/>
            <a:ext cx="219708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Constantia"/>
              </a:rPr>
              <a:t>Mode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nstantia"/>
              </a:rPr>
              <a:t>Unas 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Vestido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RESS"/>
          <p:cNvPicPr/>
          <p:nvPr/>
        </p:nvPicPr>
        <p:blipFill>
          <a:blip r:embed="rId2"/>
          <a:stretch/>
        </p:blipFill>
        <p:spPr>
          <a:xfrm>
            <a:off x="4800600" y="2895480"/>
            <a:ext cx="2197080" cy="321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DRESS"/>
          <p:cNvPicPr/>
          <p:nvPr/>
        </p:nvPicPr>
        <p:blipFill>
          <a:blip r:embed="rId3"/>
          <a:stretch/>
        </p:blipFill>
        <p:spPr>
          <a:xfrm>
            <a:off x="699768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DRESS"/>
          <p:cNvPicPr/>
          <p:nvPr/>
        </p:nvPicPr>
        <p:blipFill>
          <a:blip r:embed="rId5"/>
          <a:stretch/>
        </p:blipFill>
        <p:spPr>
          <a:xfrm>
            <a:off x="3048120" y="2895480"/>
            <a:ext cx="2211120" cy="321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0" y="2895480"/>
            <a:ext cx="2147760" cy="322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French Script MT"/>
              </a:rPr>
              <a:t>Catálogo realizado por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Sama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Gre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K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Is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Bru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6019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ettenschweiler"/>
              </a:rPr>
              <a:t>G           R           A           C           I           A         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3:12:48Z</dcterms:created>
  <dc:creator>Kaley</dc:creator>
  <dc:description/>
  <dc:language>en-US</dc:language>
  <cp:lastModifiedBy>Kaley</cp:lastModifiedBy>
  <dcterms:modified xsi:type="dcterms:W3CDTF">2012-01-16T23:23:03Z</dcterms:modified>
  <cp:revision>4</cp:revision>
  <dc:subject/>
  <dc:title>Ropa Catálogo de Estaciones </dc:title>
</cp:coreProperties>
</file>